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1EA9-7457-41B8-A870-EA52B73976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A38C-20B0-4EB5-B1DF-84F52C7CC6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95B0-E751-438C-949B-6D01608792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6EA1-F026-49F9-AB24-F0EB6C4DC6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AE95-DC0C-413E-8619-6CFFCA199D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97E5-1F66-45F9-AF6C-D431FCAAE3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EC71-6C9D-49EC-AFF8-6D18287C7F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2089-871E-41CE-98BF-CE20EE831B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EC70-086C-4EA2-B685-198F341508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8988-FED7-4111-928F-9219761A8F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FD55-32A8-4DFA-8880-46B7DAD579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7073-4B3E-4A59-9737-7EF59D2833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6AAE-78AA-46E6-97D5-72CB535934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B581-9B35-46C3-B5C3-C941D1D80D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538D-7B39-4FF7-8DFF-C0CFAEA19C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65F8-74E4-4E8F-9069-77DE3E4807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83D7-10EA-488C-9AC9-2F9DD9A182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5B3C-A2A0-45D9-87A7-DFAA6919EB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A95-D362-41B8-994D-82C1B23F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8418-552F-46E5-AC7E-6324CBD7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BDD-221A-452A-BBD4-0AC96345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ECC-E6E3-4E6F-9AE7-DD959712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1764-65B4-4F5F-AF25-BD0CAD58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00C6-A25E-4825-A048-DCA6494A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5098-05A1-4514-8518-5F887425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5FEB-EAE2-40F8-BB78-EBA16D97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0840-B13C-4850-8B65-F5D2D08C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E5C9-5737-4F8A-9303-E07A0E88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5A2B-9CFA-4E53-80BF-EF492C98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116-56A4-4D85-B2E8-A8B6BC29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12C7-5B9C-4381-AA74-9E653279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5DF4-A0FA-4E6A-9FB8-779B4285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7211-AB7B-4F91-B275-3EDDB376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E121-7477-41AC-9B7B-E01A9C11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90F7-E612-4766-8BAE-D46B7C02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78CDF-1A6C-405B-8BF9-BBA38ABF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6F1C5-F3C0-46F5-B26A-78263FE9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F8DCD-4748-4CC6-9454-80798BF9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B1666-6D66-43F1-BF43-75A0E135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0D1CD-19DF-45B9-8A24-518ED169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966E-113B-4AE9-BD90-AF307F93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747F7-C0F7-4CC7-8AF6-9019BCE5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EC156-5A3B-4B6F-97FC-7BB8ED9D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965E9-05BA-4F39-B73D-5DB5D4FE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100CC-2733-4D97-A984-55987544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569AE-C4D1-4D4E-8CF3-CD68F965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6A253-24F9-4883-97F4-38DE7B48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8E7CB-519A-4FAB-BB7D-92497C8D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3F3925-8095-4E2A-B393-38388BBF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204448-CA9E-4717-9770-52E62EA9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BFF17F-313C-4267-A4B4-469B0543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5D7-FB99-4EF4-B97F-B1D0DB1B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DA29C2-4A26-4FE7-94BB-4D569FB7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05FEBE-3B48-4D90-BB47-97D34174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B38397-BEFD-4FD1-9106-DA2A4AC2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35F7F0-ABD7-4834-BAE4-E2445D6B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54425C-4AB7-4F46-A861-0DC5358D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8B127E-0ED4-45CE-A090-DB75A8E6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78A0E5-2290-436D-8639-DCB166BB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91FE47-8AF1-4ACA-847F-2890874B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BA32EE-C7B0-47BB-8332-94F4DE6E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BBF25-2671-470A-9B62-F8240083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504-7986-4F2A-9538-C5603B02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9BC20-1798-4746-8757-FA12363C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EDF06-1B4B-4C67-AEC5-734BE0D4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7EEE2-2E97-4060-87C9-CC116EDE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379CB3-4E8C-4155-B2B4-8451632C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EA665-8F29-4203-A858-6037E506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BACC91-8725-47EC-83C2-5BD758E3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25DC6-CE97-4E9C-AE21-908B2013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4AE9E-33B4-4F3F-899D-9814AC50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7D2432-BF63-4909-8093-6B92AC75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B8058-64D4-4E7C-960A-F5774015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B38C-5F70-42FA-A012-4754BAB7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290A9C-6C55-4CB0-918B-C578E6F3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019CF-34AF-4B49-B30A-EB36F1A5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F2C03-DAF4-4896-B994-490119AD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DAE6C-52CD-4A03-8283-B5F9E08E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85733-8A21-4769-AE21-349621D2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A7BE0-8BF7-497B-B484-358F31D3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770A2-46D0-4708-B609-A027198E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79F7C-BE0B-4C0C-B207-2A9650EF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C8723-F30D-4859-A028-D1DC6482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9EB1E-4DFC-4DD0-8D49-CA583DBE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946F-B8B1-45E3-B39E-9DC2E32B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136BF-8D8A-4B8F-864D-C78555E2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23B92-F267-4BBF-AF19-0A4D7097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B69BC-9BFD-46BA-A45A-1454B5B2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BFF2D6-3869-401F-9E91-C8CC72BB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9B417-E337-407F-BBCB-FCEA4FDA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A7CCD4-4EC8-40C0-8CF1-51BD028B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EEFA99-48CF-41C3-A96C-47C3F156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5B6793-92B2-4003-8B18-7ED31B05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F2CD8E-4C1D-49BF-BE1F-0F94CED6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AFED03-7FD0-42E4-B3CC-53AD477A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E72-F4FA-4A3E-BDD4-316E195A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351FBA-EBB2-4ABB-B076-F85C304A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24BF83-A3C9-423E-82A0-438A6A3A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4F1A23-8B7E-4C0D-926B-68198FE4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199E01-CFF1-4BDE-B7B5-C5DD72B4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4C571D-557F-4C0C-B0F1-1414852E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F49AA-38E3-48E5-86EE-E5DE4D0F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0741F-60A9-47DD-A038-BF35A881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5AA5D-759F-45C6-B0B1-9E49D573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33D94-903B-4F72-A68C-0399CE74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BE099-737F-4188-85AD-008F421D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E41-07BC-4D6A-8D34-316A18FB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C0832-E0C1-438D-933B-7286E6F4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03B69-A338-4966-B9F0-D8FF4739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0A7CD-B15E-48A0-9931-CF1E1258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CE0F3-F63D-4ED8-885E-C9CA6597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8EBAE-39DA-4C38-97B7-BCDA019D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CD358-04D1-47D7-A52C-67F99A91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6EEC7-765F-4AD6-B03A-E17474C9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34F5-7451-4269-AEAE-F659B6BD79B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FEEE-5EC1-4730-818F-24FA2AA03CA2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FD74-7B8E-4173-A9E1-AA649D7CC40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253B-D7E6-490F-9FF7-DA43DB74FD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993F-0991-4E45-AE2E-B7E61FB6BB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57D7-3660-433A-80F6-2E10333D5F2D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6783-B618-47BE-857F-4EEF2587E10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A033-8F57-4A89-B00F-F8DEAF5F11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rançais 3 - Introduct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w Cen MT"/>
              </a:rPr>
              <a:t>Il/Elle est comment?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ady Gaga, elle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7" name="Picture 1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ane Cooke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9" name="Picture 7" descr="danecook"/>
          <p:cNvPicPr/>
          <p:nvPr/>
        </p:nvPicPr>
        <p:blipFill>
          <a:blip r:embed="rId1"/>
          <a:stretch/>
        </p:blipFill>
        <p:spPr>
          <a:xfrm>
            <a:off x="2514600" y="1905120"/>
            <a:ext cx="39607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arack Obama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05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5000" y="-360"/>
            <a:ext cx="889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im Kardashian, elle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514600" y="1028880"/>
            <a:ext cx="38862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ustin Timberlake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5" name="Picture 1" descr=""/>
          <p:cNvPicPr/>
          <p:nvPr/>
        </p:nvPicPr>
        <p:blipFill>
          <a:blip r:embed="rId1"/>
          <a:stretch/>
        </p:blipFill>
        <p:spPr>
          <a:xfrm>
            <a:off x="2438280" y="1473120"/>
            <a:ext cx="381024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ris Hilton, elle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7" name="Picture 7" descr="http://www.gossipcheck.com/blog/wp-content/uploads/2009/03/paris_hilton_350x.jpg"/>
          <p:cNvPicPr/>
          <p:nvPr/>
        </p:nvPicPr>
        <p:blipFill>
          <a:blip r:embed="rId1"/>
          <a:stretch/>
        </p:blipFill>
        <p:spPr>
          <a:xfrm>
            <a:off x="2057400" y="1990800"/>
            <a:ext cx="42195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m Tebow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9" name="Picture 1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581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rtman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1" name="Picture 5" descr="cartman"/>
          <p:cNvPicPr/>
          <p:nvPr/>
        </p:nvPicPr>
        <p:blipFill>
          <a:blip r:embed="rId1"/>
          <a:stretch/>
        </p:blipFill>
        <p:spPr>
          <a:xfrm>
            <a:off x="2133720" y="1981080"/>
            <a:ext cx="50292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évisons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5" descr="200px-WillFerrell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45561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ill Farrell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Tu es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14400" y="57146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AVOIR + # ANS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7" descr="nerd"/>
          <p:cNvPicPr/>
          <p:nvPr/>
        </p:nvPicPr>
        <p:blipFill>
          <a:blip r:embed="rId1"/>
          <a:stretch/>
        </p:blipFill>
        <p:spPr>
          <a:xfrm>
            <a:off x="2536920" y="1752480"/>
            <a:ext cx="4140000" cy="510552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8"/>
          <p:cNvSpPr/>
          <p:nvPr/>
        </p:nvSpPr>
        <p:spPr>
          <a:xfrm>
            <a:off x="5867280" y="1447920"/>
            <a:ext cx="2971800" cy="1523880"/>
          </a:xfrm>
          <a:prstGeom prst="wedgeRoundRectCallout">
            <a:avLst>
              <a:gd name="adj1" fmla="val -65759"/>
              <a:gd name="adj2" fmla="val 175208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Bonjou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18 an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914400" y="579132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#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"/>
          <p:cNvSpPr/>
          <p:nvPr/>
        </p:nvSpPr>
        <p:spPr>
          <a:xfrm>
            <a:off x="228600" y="1676520"/>
            <a:ext cx="3352680" cy="144756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on â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ady Gaga, elle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6" name="Picture 1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ane Cooke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8" name="Picture 7" descr="danecook"/>
          <p:cNvPicPr/>
          <p:nvPr/>
        </p:nvPicPr>
        <p:blipFill>
          <a:blip r:embed="rId1"/>
          <a:stretch/>
        </p:blipFill>
        <p:spPr>
          <a:xfrm>
            <a:off x="2514600" y="1905120"/>
            <a:ext cx="39607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arack Obama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05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5000" y="-360"/>
            <a:ext cx="889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im Kardashian, elle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2514600" y="1028880"/>
            <a:ext cx="38862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ustin Timberlake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2438280" y="1473120"/>
            <a:ext cx="381024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ris Hilton, elle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6" name="Picture 7" descr="http://www.gossipcheck.com/blog/wp-content/uploads/2009/03/paris_hilton_350x.jpg"/>
          <p:cNvPicPr/>
          <p:nvPr/>
        </p:nvPicPr>
        <p:blipFill>
          <a:blip r:embed="rId1"/>
          <a:stretch/>
        </p:blipFill>
        <p:spPr>
          <a:xfrm>
            <a:off x="2057400" y="1990800"/>
            <a:ext cx="42195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m Tebow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8" name="Picture 1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581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rtman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0" name="Picture 5" descr="cartman"/>
          <p:cNvPicPr/>
          <p:nvPr/>
        </p:nvPicPr>
        <p:blipFill>
          <a:blip r:embed="rId1"/>
          <a:stretch/>
        </p:blipFill>
        <p:spPr>
          <a:xfrm>
            <a:off x="2133720" y="1981080"/>
            <a:ext cx="50292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Vous êtes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4400" y="57146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NOU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7" descr="gm20--siamese-cat"/>
          <p:cNvPicPr/>
          <p:nvPr/>
        </p:nvPicPr>
        <p:blipFill>
          <a:blip r:embed="rId1"/>
          <a:stretch/>
        </p:blipFill>
        <p:spPr>
          <a:xfrm>
            <a:off x="2413080" y="1905120"/>
            <a:ext cx="4673520" cy="471492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0" y="2133720"/>
            <a:ext cx="2590920" cy="2743200"/>
          </a:xfrm>
          <a:prstGeom prst="wedgeRoundRectCallout">
            <a:avLst>
              <a:gd name="adj1" fmla="val 75120"/>
              <a:gd name="adj2" fmla="val 85648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yeux bleus. Miaou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914400" y="579132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yeux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__________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5486400" y="762120"/>
            <a:ext cx="3352680" cy="144756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7" descr="shorthair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Vous êtes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cheveux _________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6567480" y="3124080"/>
            <a:ext cx="2590920" cy="2057400"/>
          </a:xfrm>
          <a:prstGeom prst="wedgeRoundRectCallout">
            <a:avLst>
              <a:gd name="adj1" fmla="val -98351"/>
              <a:gd name="adj2" fmla="val 62226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cheveux cou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562720" y="304920"/>
            <a:ext cx="3352680" cy="144756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7" descr="the_happy_carpenters_2nd_cousin"/>
          <p:cNvPicPr/>
          <p:nvPr/>
        </p:nvPicPr>
        <p:blipFill>
          <a:blip r:embed="rId1"/>
          <a:stretch/>
        </p:blipFill>
        <p:spPr>
          <a:xfrm>
            <a:off x="3048120" y="1676520"/>
            <a:ext cx="3443040" cy="51814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Vous êtes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cheveux _________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304920" y="1752480"/>
            <a:ext cx="2590560" cy="2057400"/>
          </a:xfrm>
          <a:prstGeom prst="wedgeRoundRectCallout">
            <a:avLst>
              <a:gd name="adj1" fmla="val 100120"/>
              <a:gd name="adj2" fmla="val 109569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cheveux long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5486400" y="228600"/>
            <a:ext cx="3352680" cy="14479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7" descr="43006056_913807e81d"/>
          <p:cNvPicPr/>
          <p:nvPr/>
        </p:nvPicPr>
        <p:blipFill>
          <a:blip r:embed="rId1"/>
          <a:stretch/>
        </p:blipFill>
        <p:spPr>
          <a:xfrm>
            <a:off x="1371600" y="1712880"/>
            <a:ext cx="7315200" cy="49165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Vous êtes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cheveux _________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6095880" y="1752480"/>
            <a:ext cx="2590920" cy="2057400"/>
          </a:xfrm>
          <a:prstGeom prst="wedgeRoundRectCallout">
            <a:avLst>
              <a:gd name="adj1" fmla="val -79287"/>
              <a:gd name="adj2" fmla="val 96324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cheveux roux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5486400" y="152280"/>
            <a:ext cx="3352680" cy="14479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7" descr="yao_ming"/>
          <p:cNvPicPr/>
          <p:nvPr/>
        </p:nvPicPr>
        <p:blipFill>
          <a:blip r:embed="rId1"/>
          <a:stretch/>
        </p:blipFill>
        <p:spPr>
          <a:xfrm>
            <a:off x="2286000" y="1828800"/>
            <a:ext cx="4459320" cy="7848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Vous êtes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ÊTRE + ADJECTIF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AutoShape 5"/>
          <p:cNvSpPr/>
          <p:nvPr/>
        </p:nvSpPr>
        <p:spPr>
          <a:xfrm>
            <a:off x="6324480" y="4191120"/>
            <a:ext cx="2590920" cy="1523880"/>
          </a:xfrm>
          <a:prstGeom prst="wedgeRoundRectCallout">
            <a:avLst>
              <a:gd name="adj1" fmla="val -75490"/>
              <a:gd name="adj2" fmla="val -146773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e suis gran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04920" y="1828800"/>
            <a:ext cx="2590560" cy="1523880"/>
          </a:xfrm>
          <a:prstGeom prst="wedgeRoundRectCallout">
            <a:avLst>
              <a:gd name="adj1" fmla="val 49254"/>
              <a:gd name="adj2" fmla="val 104606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e suis peti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5486400" y="380880"/>
            <a:ext cx="3352680" cy="14479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stru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vaillez avec la personne à côté de vou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éez des descriptions des personnes suivant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ous pouvez mentioner des aspects de leur physique et leur caractèr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ous comprenez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ns-y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5" descr="200px-WillFerrell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45561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ill Farrell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09-12T14:14:57Z</dcterms:modified>
  <cp:revision>80</cp:revision>
  <dc:subject/>
  <dc:title>Allez, viens! – Level 2</dc:title>
</cp:coreProperties>
</file>